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9FBE-1A0B-47BF-B5CB-583AF100B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D1AE-4B59-41B2-AEE3-4BCA50E5B23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DB43-7D2F-4F46-8E95-D0ADDA8675F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53BC-0D02-4641-9D36-126E5CE0436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3B92-03F3-411E-8504-53B1A365885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1B8A-0922-44EE-AD52-54DC41A3F92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7199-743B-4084-99F9-73538A38102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E568-D6E2-45C4-B9E9-871030E9BD0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D441-A818-4E9A-886F-DA22190332F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A826-310E-41EB-9AAD-3EFE5213BF4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5E2F-BADA-4CF7-938B-97D35BB6132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1000-0BC2-4B9E-873B-9626385ED07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2CDF-FCBE-4C8D-823C-D2EEC11A38F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2896-67A8-4FB2-8376-ADDD7EE7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D35-83F5-4B85-8762-6AD29B37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F0C-FFF2-4AF3-A876-D1E4DFC5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8B3-0FA3-416A-A017-ED1F2AEE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5660-4A00-47CA-B8A0-220C4AD6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B50B-5707-4845-8459-32E17004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8E6E-D398-4129-B82E-A218CED7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A762-9530-45EC-9FC9-E60DD151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863D-50FE-470B-8B2F-5946725B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E3E1-AA0B-490A-BE83-8EC10879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F6A3-B9A8-4B8D-86F6-0026040C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979-5049-4083-9258-C6E9EE85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F17B-8B40-419A-B0FF-EB967EF6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2727-9D5F-4FFB-84D0-526C99E7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E653-76A1-4F7E-95F4-8806C933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3A9F-7437-4353-B318-FC83669F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891A-CABD-4238-9373-99BD1EAB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9A5-D42C-472D-BED5-49F894E5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503-8FAA-4A44-BC06-EDB5DF02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BA87-E88D-45EA-9BEE-0F79E21E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86ED-514E-47D0-858F-4B97C31E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2DC-6EE4-4FCA-8F95-026E6655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C49-13FF-40C7-9653-0CD4481C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04B-3715-41D5-AF0E-4C7F990C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38BA-1D5F-4526-80BB-526E94DF1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1A53-F8D5-4CF9-83B5-A3CB777F8CB1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Notes to Share: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Big Ideas from Your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Hancock Textbook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Chapters 6, 7, and 14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stars link to websites </a:t>
            </a:r>
            <a:br>
              <a:rPr sz="3200"/>
            </a:b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if you are interested…</a:t>
            </a:r>
            <a:br>
              <a:rPr sz="3200"/>
            </a:b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676520" y="4800600"/>
            <a:ext cx="685800" cy="60948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Interdisciplinary &amp; Intertextual Connections and Response (Hancock, Ch. 14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iterature Clusters: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choose texts from across the genres (narrative, expository, and poetic) to increase depth of children’s understanding (vs. breadth) and foster making connections to multiple texts &amp; forma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Expose students to all literary genre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Connect fact and fiction for both enjoyment and learning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Create opportunities for a range of response activities related to a core topic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Choose </a:t>
            </a:r>
            <a:r>
              <a:rPr b="1" lang="en-US" sz="2200" spc="-1" strike="noStrike">
                <a:solidFill>
                  <a:srgbClr val="330000"/>
                </a:solidFill>
                <a:latin typeface="Arial"/>
              </a:rPr>
              <a:t>theme &gt; core book &gt; collection &gt; design respons choices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 (that relate to district standards and learning objectives)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heme Explorations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rganize much of your curriculum around topical themes (rather than content area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When done well, they help students connect learning across the disciplines (but pick a KEY life theme)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An explicit graphic/visual of the connections is key to staying on track (extended lesson plan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ombine whole-class, small group and individual response activitie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ntegrate reading comprehension strategy use across the texts and topic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It’s tricky and complex - best when you have some experience!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80520" y="5331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Interdisciplinary &amp; Intertextual Connections and Response (Hancock, Ch. 14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win Texts Meet Technolog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Blend fiction, non-fiction, and Internet websites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Use websites 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before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(to generate prior knowledge), 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during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(to provide a visual/interactive connection), and/or 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after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reading (to stimulate a response).  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Provide access to non-traditional formats and introduce new “genres” (e.g., blogs, wikis, online storybooks,interactive animations, audio and video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Provide access to multiple perspectives (culture, language)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3124080" y="5029200"/>
            <a:ext cx="838440" cy="76212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5257800" y="5029200"/>
            <a:ext cx="838080" cy="76212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80520" y="5331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Interdisciplinary &amp; Intertextual Connections and Response (Hancock, Ch. 14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lements of Modern Fantasy (Hancock, Ch. 4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Fantas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an element that exists only in the imagin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The imaginary elements provides the bridge that separates fantasy from realism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The reader (if willing) is transported to a world of imaginary settings, elements of magic, and heroes/heroines that possess incredible power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Great fantasies can even reveal new insights into the world of reality (e.g., Thief Lord; Tuck Everlasting, Charlotte’s Web, James &amp; The Giant Peach)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Abuse of power, life and death, justice under the law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ypes of Fantas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00"/>
                </a:solidFill>
                <a:uFillTx/>
                <a:latin typeface="Arial"/>
              </a:rPr>
              <a:t>Animal fantasy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- animals that possess human qualities in addition to their natural characteristics (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Stuart Little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by E.B. White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00"/>
                </a:solidFill>
                <a:uFillTx/>
                <a:latin typeface="Arial"/>
              </a:rPr>
              <a:t>Humorous fantasy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- exxagerated tales (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BFG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by Roald Dahl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00"/>
                </a:solidFill>
                <a:uFillTx/>
                <a:latin typeface="Arial"/>
              </a:rPr>
              <a:t>Ghost fantasy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- mystery and unexplainable happenings (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Skellig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by David Almond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00"/>
                </a:solidFill>
                <a:uFillTx/>
                <a:latin typeface="Arial"/>
              </a:rPr>
              <a:t>Time travel fantasy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- characters shift in time (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Magic Treehouse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by Mary Pope Osborne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00"/>
                </a:solidFill>
                <a:uFillTx/>
                <a:latin typeface="Arial"/>
              </a:rPr>
              <a:t>High fantasy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- heroic, dramatic questions (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The Chronicles of Narnia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by C.S. Lewis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00"/>
                </a:solidFill>
                <a:uFillTx/>
                <a:latin typeface="Arial"/>
              </a:rPr>
              <a:t>Science fantasy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- fantasy balanced scientific fact with fiction (</a:t>
            </a: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A Wrinkle in Time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 by Madeline L’Engle)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Characteristics and </a:t>
            </a:r>
            <a:br>
              <a:rPr sz="4000"/>
            </a:b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Benefits of Fantasy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t continuously makes the fantastic element ingenious and creative (but somehow believable) throughout the central events of the stor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ality fantasy provides an escape from reality to pretend, visualize, and dream about what might be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ality fantasy challenges and develops a child’s imagina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ality fantasy provides ways for the reader to reflect on bigger life issues (e.g., morality, values, mortality, community, society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Responding to Fantas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00"/>
                </a:solidFill>
                <a:latin typeface="Arial"/>
              </a:rPr>
              <a:t>Young readers: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appreciating the presence of magic and impossibility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Learning about fantasy “series” to inspire reading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Explore </a:t>
            </a:r>
            <a:r>
              <a:rPr b="0" i="1" lang="en-US" sz="2200" spc="-1" strike="noStrike">
                <a:solidFill>
                  <a:srgbClr val="330000"/>
                </a:solidFill>
                <a:latin typeface="Arial"/>
              </a:rPr>
              <a:t>Magic Treehouse 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Series on the Internet!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00"/>
                </a:solidFill>
                <a:latin typeface="Arial"/>
              </a:rPr>
              <a:t>Intermediate readers: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Reflecting with peers about the deeper meaning behind the magic 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Artistic responses (writing, drawing, acting) to envision the hero/heroine in his/her glory in a triumph over insurmountable challenge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Technology Connection: </a:t>
            </a:r>
            <a:r>
              <a:rPr b="0" i="1" lang="en-US" sz="2200" spc="-1" strike="noStrike">
                <a:solidFill>
                  <a:srgbClr val="330000"/>
                </a:solidFill>
                <a:latin typeface="Arial"/>
              </a:rPr>
              <a:t>Guardians of Ga’Hoole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7848720" y="5181480"/>
            <a:ext cx="685800" cy="60984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7696080" y="2971800"/>
            <a:ext cx="685800" cy="60948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Nonfiction literature (Hancock, Ch. 13) Biography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Biography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authentic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? Factual or fictional portrai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mount of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overag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? Whole life or certain ev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Single person or multiple peopl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in a group? (e.g., athletes, musicians, inventors, author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From whose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perspectiv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? 1st person autobiography, memoir, 3rd person, or an outsider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Quality Biograph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ccuracy of fact and detai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uality writing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Benefits &amp; Responses to Biography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Provides a model of how to gather and synthesize research on a person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Presents models of people whose hard work and determination helped to overcome obstacles - encourage readers to set high goals and achieve succes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sponse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Write their own autobiography or another person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Compare/contrast subjects strengths &amp; weaknesse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Technology Connection: </a:t>
            </a:r>
            <a:r>
              <a:rPr b="0" i="1" lang="en-US" sz="2200" spc="-1" strike="noStrike">
                <a:solidFill>
                  <a:srgbClr val="330000"/>
                </a:solidFill>
                <a:latin typeface="Arial"/>
              </a:rPr>
              <a:t>Children’s Encyclopedia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7924680" y="5486400"/>
            <a:ext cx="762120" cy="60948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Nonfiction Literature (Hancock Ch. 13): Informational Book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Informational book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expository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Informational picture book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(text &amp; illustrations play a vital role in meaning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hotographic essay (authentic photos to bring events to life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formational books with a narrative blen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cent trend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in informational book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upported with evidence; links to illustration; unconventional formats; specialized topic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00"/>
                </a:solidFill>
                <a:latin typeface="Arial"/>
              </a:rPr>
              <a:t>Orbis Pictus Award for Outstanding Nonfic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National Council of Teachers of English NCTE)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Benefits &amp; Responses to Informational Book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Invites children into reading for learning </a:t>
            </a:r>
            <a:r>
              <a:rPr b="0" i="1" lang="en-US" sz="2200" spc="-1" strike="noStrike">
                <a:solidFill>
                  <a:srgbClr val="33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 enjoyment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TONS of topics to peak familiar interests or stimulate interest in a new topic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Provides model for conducting research/inquiry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spons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Biographies: Diary entries, oral dialogue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Conduct/present information on own topic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Interdisciplinary connections (fact and fiction) to </a:t>
            </a:r>
            <a:br>
              <a:rPr sz="2200"/>
            </a:b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broaden understanding of the topic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00"/>
                </a:solidFill>
                <a:latin typeface="Arial"/>
              </a:rPr>
              <a:t>Technology Connection: </a:t>
            </a:r>
            <a:r>
              <a:rPr b="0" i="1" lang="en-US" sz="2200" spc="-1" strike="noStrike">
                <a:solidFill>
                  <a:srgbClr val="330000"/>
                </a:solidFill>
                <a:latin typeface="Arial"/>
              </a:rPr>
              <a:t>Bicycle Heroes: Two Centuries</a:t>
            </a: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7696080" y="4876920"/>
            <a:ext cx="762120" cy="609480"/>
          </a:xfrm>
          <a:prstGeom prst="pie">
            <a:avLst/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6:18:58Z</dcterms:created>
  <dc:creator>Julie Coiro</dc:creator>
  <dc:description/>
  <dc:language>en-US</dc:language>
  <cp:lastModifiedBy>Julie Coiro</cp:lastModifiedBy>
  <cp:lastPrinted>2009-10-19T14:47:12Z</cp:lastPrinted>
  <dcterms:modified xsi:type="dcterms:W3CDTF">2010-10-18T16:45:06Z</dcterms:modified>
  <cp:revision>293</cp:revision>
  <dc:subject/>
  <dc:title>Metacognitive Strategy Instruction to Enhance Reading Comprehension</dc:title>
</cp:coreProperties>
</file>